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ADF3-2E5F-4960-BD96-12A24A9B7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7E66-725B-48A5-A498-357685484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67DA-55C1-4C5E-964C-CCF1AD4D0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9A88-A319-4966-B2CB-0D229D34B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B73F-5898-4186-B93B-9BCB180C2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E91C-3CD2-4A40-9C35-211FB561A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D81D-5917-4C64-AB89-031D512A4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4FF6-A9CD-4874-AFFD-01E5A0F69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5E6F-FF0C-435C-BAC5-07A739A14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B295-A0FE-43E7-B558-04BFAA90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C427-CBCC-452B-93A1-C83A1B50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743C-3C73-4A9D-896C-009191DD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87224-66BA-4BCE-898D-D5B58E1B162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50920" y="260280"/>
            <a:ext cx="597672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Ministério das Cidades                                                                                         Secretaria Nacional de Saneamento Ambient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7772400" cy="45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1" i="1" lang="pt-BR" sz="4400" spc="-1" strike="noStrike">
                <a:solidFill>
                  <a:srgbClr val="000000"/>
                </a:solidFill>
                <a:latin typeface="Times New Roman"/>
              </a:rPr>
              <a:t>Legislação de interesse dos Serviços  Públicos de Saneamento Básico </a:t>
            </a:r>
            <a:br>
              <a:rPr sz="1600"/>
            </a:br>
            <a:br>
              <a:rPr sz="1600"/>
            </a:br>
            <a:r>
              <a:rPr b="1" i="1" lang="pt-BR" sz="2000" spc="-1" strike="noStrike">
                <a:solidFill>
                  <a:srgbClr val="000000"/>
                </a:solidFill>
                <a:latin typeface="Times New Roman"/>
              </a:rPr>
              <a:t>Eng. Marcos Helano Fernandes Montenegro</a:t>
            </a:r>
            <a:br>
              <a:rPr sz="2000"/>
            </a:br>
            <a:br>
              <a:rPr sz="2000"/>
            </a:br>
            <a:r>
              <a:rPr b="1" i="1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Brasília, DF, Fevereiro de 2007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990720"/>
            <a:ext cx="8534520" cy="51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256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ei 11.107 - Gestão associada – Modelo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contratação de consórcio público (prestador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onsórcio Públ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95256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contrato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   contrato 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contrato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5256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de programa  A 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 de programa B     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programa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5256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5256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5256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unicípio 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unicípio B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unicípio C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Estado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744200">
            <a:off x="1979640" y="410796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08360" y="432432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57800" y="429264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55640" y="3213000"/>
            <a:ext cx="2244600" cy="2664000"/>
          </a:xfrm>
          <a:custGeom>
            <a:avLst/>
            <a:gdLst/>
            <a:ahLst/>
            <a:rect l="l" t="t" r="r" b="b"/>
            <a:pathLst>
              <a:path w="1414" h="1678">
                <a:moveTo>
                  <a:pt x="1414" y="0"/>
                </a:moveTo>
                <a:cubicBezTo>
                  <a:pt x="851" y="389"/>
                  <a:pt x="288" y="778"/>
                  <a:pt x="144" y="1043"/>
                </a:cubicBezTo>
                <a:cubicBezTo>
                  <a:pt x="0" y="1308"/>
                  <a:pt x="477" y="1496"/>
                  <a:pt x="552" y="1587"/>
                </a:cubicBezTo>
                <a:cubicBezTo>
                  <a:pt x="627" y="1678"/>
                  <a:pt x="590" y="1587"/>
                  <a:pt x="597" y="158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3573360"/>
            <a:ext cx="1079280" cy="2303640"/>
          </a:xfrm>
          <a:custGeom>
            <a:avLst/>
            <a:gdLst/>
            <a:ahLst/>
            <a:rect l="l" t="t" r="r" b="b"/>
            <a:pathLst>
              <a:path w="680" h="1451">
                <a:moveTo>
                  <a:pt x="680" y="0"/>
                </a:moveTo>
                <a:cubicBezTo>
                  <a:pt x="385" y="468"/>
                  <a:pt x="90" y="937"/>
                  <a:pt x="45" y="1179"/>
                </a:cubicBezTo>
                <a:cubicBezTo>
                  <a:pt x="0" y="1421"/>
                  <a:pt x="204" y="1436"/>
                  <a:pt x="408" y="145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18604200">
            <a:off x="4458600" y="3770640"/>
            <a:ext cx="1298520" cy="2138400"/>
          </a:xfrm>
          <a:custGeom>
            <a:avLst/>
            <a:gdLst/>
            <a:ahLst/>
            <a:rect l="l" t="t" r="r" b="b"/>
            <a:pathLst>
              <a:path w="680" h="1451">
                <a:moveTo>
                  <a:pt x="680" y="0"/>
                </a:moveTo>
                <a:cubicBezTo>
                  <a:pt x="385" y="468"/>
                  <a:pt x="90" y="937"/>
                  <a:pt x="45" y="1179"/>
                </a:cubicBezTo>
                <a:cubicBezTo>
                  <a:pt x="0" y="1421"/>
                  <a:pt x="204" y="1436"/>
                  <a:pt x="408" y="145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9809600">
            <a:off x="6732720" y="425268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50920" y="1341360"/>
            <a:ext cx="86104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LEI Nº 11.445, DE 5 DE JANEIRO DE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Art. 1º - Esta Lei estabelece as diretrizes nacionais para o saneamento básico e para a política federal de saneamento bás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55640" y="981000"/>
            <a:ext cx="810576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44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Times New Roman"/>
              </a:rPr>
              <a:t>Lei Nº 11.445, de 5 de janeiro de 20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ítulo 1 - Dos princípios fundament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ítulo 2 - Do exercício da titular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ítulo 3 - Da prestação regionalizada de serviços públicos de saneamento bá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ítulo 4 - Do planej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ítulo 5 - Da regul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ítulo 6 - Dos aspectos econômicos e soci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ítulo 7 - Dos aspectos téc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ítulo 8 - Da participação de órgãos colegiados no controle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ítulo 9 - Da política federal de saneamento bá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ítulo 10 - Disposições fin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50920" y="1125360"/>
            <a:ext cx="8610480" cy="59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355680" indent="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Prestação direta ou indireta de serviços públ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4680">
              <a:lnSpc>
                <a:spcPct val="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46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restação direta ou indireta de serviços públicos está prevista no art. 175 da Constituição Feder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46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rt. 175. Incumbe ao Poder Público, na forma da lei, diretamente ou sob regime de concessão ou permissão, sempre através de licitação, a prestação de serviços públ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arágrafo único. A lei disporá sob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 - o regime das empresas concessionárias e permissionárias de serviços públicos, o caráter especial de seu contrato e de sua prorrogação, bem como as condições de caducidade, fiscalização e rescisão da concessão ou permissã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I - os direitos dos usuári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II - política tarifári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V - a obrigação de manter serviço adequ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0920" y="1413000"/>
            <a:ext cx="861048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355680" indent="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Gestão associada de serviços públ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46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gestão associada de serviços públicos está prevista no art. 241 da       Constituição Federal (Emenda Constitucional nº. 19, de 1998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46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1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rt. 241.  A União, os Estados, o Distrito Federal e os Municípios disciplinarão por meio d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le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os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consórcios público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 o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convênios de cooperaçã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tre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entes federado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autorizando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gestão associada de serviços público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bem como a transferência total ou parcial de encargos, serviços, pessoal e bens essenciais à continuidade dos serviços transferi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50920" y="1125360"/>
            <a:ext cx="8610480" cy="57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355680" indent="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0000"/>
                </a:solidFill>
                <a:latin typeface="Arial"/>
              </a:rPr>
              <a:t>Competência para prestação de serviços públicos loc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4680">
              <a:lnSpc>
                <a:spcPct val="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46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competência municipal está prevista no art. 30 da Constituição Feder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46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46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46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rt. 30. Compete aos Municípi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 - organizar e prestar, diretamente ou sob regime de concessão ou permissão, os serviços públicos de interesse local, incluído o de transporte coletivo, que tem caráter essenci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0920" y="1125360"/>
            <a:ext cx="8610480" cy="44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450720"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0000"/>
                </a:solidFill>
                <a:latin typeface="Arial"/>
              </a:rPr>
              <a:t>Competência para regionalização de serviços públicos loc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0720">
              <a:lnSpc>
                <a:spcPct val="1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0720">
              <a:lnSpc>
                <a:spcPct val="115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competência dos estados está prevista no art. 25 da Constituição Feder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>
              <a:lnSpc>
                <a:spcPct val="115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>
              <a:lnSpc>
                <a:spcPct val="115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rt. 25  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>
              <a:lnSpc>
                <a:spcPct val="115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>
              <a:lnSpc>
                <a:spcPct val="115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§ 3º - Os Estados poderão, mediante lei complementar, instituir regiões metropolitanas, aglomerações urbanas e microrregiões, constituídas por agrupamentos de municípios limítrofes, para integrar a organização, o planejamento e a execução de funções públicas de interesse comu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50920" y="1341360"/>
            <a:ext cx="861048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0000"/>
                </a:solidFill>
                <a:latin typeface="Times New Roman"/>
              </a:rPr>
              <a:t>Lei Nº 11.107, de 6 de Abril de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Times New Roman"/>
              </a:rPr>
              <a:t>Dispõe sobre normas gerais para a União, os Estados, o Distrito Federal e os Municípios contratarem consórcios públicos para a realização de objetivos de interesse comum e dá outras providênc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0000"/>
                </a:solidFill>
                <a:latin typeface="Times New Roman"/>
              </a:rPr>
              <a:t>Decreto Nº 6.017, de 17 de Janeiro de 200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Times New Roman"/>
              </a:rPr>
              <a:t>Estabelece normas para a execução da Lei Nº 11.107, de 6 de Abril de 200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1168560"/>
            <a:ext cx="861048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Centraliz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Direta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utarqu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escentralizada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(outorga) 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mpresa públ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soc. econ. mi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fund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Prestação de 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Serviço Público 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Indireta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citação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contrato de concessã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(delegação)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1800" spc="-1" strike="noStrike">
                <a:solidFill>
                  <a:srgbClr val="0000ff"/>
                </a:solidFill>
                <a:latin typeface="Times New Roman"/>
              </a:rPr>
              <a:t>consórcio público</a:t>
            </a:r>
            <a:r>
              <a:rPr b="0" lang="pt-B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ff"/>
                </a:solidFill>
                <a:latin typeface="Times New Roman"/>
              </a:rPr>
              <a:t>contrato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1800" spc="-1" strike="noStrike">
                <a:solidFill>
                  <a:srgbClr val="0000ff"/>
                </a:solidFill>
                <a:latin typeface="Times New Roman"/>
              </a:rPr>
              <a:t>Gestão associada</a:t>
            </a:r>
            <a:r>
              <a:rPr b="1" lang="pt-BR" sz="1800" spc="-1" strike="noStrike">
                <a:solidFill>
                  <a:srgbClr val="0099ff"/>
                </a:solidFill>
                <a:latin typeface="Times New Roman"/>
              </a:rPr>
              <a:t> </a:t>
            </a:r>
            <a:r>
              <a:rPr b="1" lang="pt-BR" sz="1800" spc="-1" strike="noStrike">
                <a:solidFill>
                  <a:srgbClr val="0099ff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99ff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99ff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1800" spc="-1" strike="noStrike">
                <a:solidFill>
                  <a:srgbClr val="0000ff"/>
                </a:solidFill>
                <a:latin typeface="Times New Roman"/>
              </a:rPr>
              <a:t>convênio de cooperação</a:t>
            </a:r>
            <a:r>
              <a:rPr b="1" lang="pt-BR" sz="1800" spc="-1" strike="noStrike">
                <a:solidFill>
                  <a:srgbClr val="0000ff"/>
                </a:solidFill>
                <a:latin typeface="Times New Roman"/>
              </a:rPr>
              <a:t>        programa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79640" y="1484280"/>
            <a:ext cx="152280" cy="5027760"/>
          </a:xfrm>
          <a:custGeom>
            <a:avLst/>
            <a:gdLst>
              <a:gd name="textAreaLeft" fmla="*/ 97200 w 152280"/>
              <a:gd name="textAreaRight" fmla="*/ 152640 w 152280"/>
              <a:gd name="textAreaTop" fmla="*/ 131040 h 5027760"/>
              <a:gd name="textAreaBottom" fmla="*/ 4896720 h 502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16360" y="1700280"/>
            <a:ext cx="152280" cy="1644480"/>
          </a:xfrm>
          <a:custGeom>
            <a:avLst/>
            <a:gdLst>
              <a:gd name="textAreaLeft" fmla="*/ 97200 w 152280"/>
              <a:gd name="textAreaRight" fmla="*/ 152640 w 152280"/>
              <a:gd name="textAreaTop" fmla="*/ 42840 h 1644480"/>
              <a:gd name="textAreaBottom" fmla="*/ 1601640 h 1644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80000" y="2514600"/>
            <a:ext cx="228600" cy="11890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0960 h 1189080"/>
              <a:gd name="textAreaBottom" fmla="*/ 1158120 h 118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3962520"/>
            <a:ext cx="304560" cy="866520"/>
          </a:xfrm>
          <a:custGeom>
            <a:avLst/>
            <a:gdLst>
              <a:gd name="textAreaLeft" fmla="*/ 194760 w 304560"/>
              <a:gd name="textAreaRight" fmla="*/ 304920 w 304560"/>
              <a:gd name="textAreaTop" fmla="*/ 22320 h 866520"/>
              <a:gd name="textAreaBottom" fmla="*/ 844200 h 86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17"/>
                </a:lnTo>
                <a:cubicBezTo>
                  <a:pt x="10800" y="9917"/>
                  <a:pt x="5400" y="10817"/>
                  <a:pt x="0" y="10817"/>
                </a:cubicBezTo>
                <a:cubicBezTo>
                  <a:pt x="5400" y="10817"/>
                  <a:pt x="10800" y="11717"/>
                  <a:pt x="10800" y="12617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62520" y="53341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443640" y="5334120"/>
            <a:ext cx="228600" cy="914400"/>
          </a:xfrm>
          <a:custGeom>
            <a:avLst/>
            <a:gdLst>
              <a:gd name="textAreaLeft" fmla="*/ 0 w 228600"/>
              <a:gd name="textAreaRight" fmla="*/ 8244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5028480" y="3962520"/>
            <a:ext cx="307800" cy="838080"/>
          </a:xfrm>
          <a:custGeom>
            <a:avLst/>
            <a:gdLst>
              <a:gd name="textAreaLeft" fmla="*/ 196200 w 307800"/>
              <a:gd name="textAreaRight" fmla="*/ 307800 w 307800"/>
              <a:gd name="textAreaTop" fmla="*/ 24840 h 838080"/>
              <a:gd name="textAreaBottom" fmla="*/ 81324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24"/>
                  <a:pt x="10800" y="2047"/>
                </a:cubicBezTo>
                <a:lnTo>
                  <a:pt x="10800" y="8753"/>
                </a:lnTo>
                <a:cubicBezTo>
                  <a:pt x="10800" y="9777"/>
                  <a:pt x="5400" y="10800"/>
                  <a:pt x="0" y="10800"/>
                </a:cubicBezTo>
                <a:cubicBezTo>
                  <a:pt x="5400" y="10800"/>
                  <a:pt x="10800" y="11824"/>
                  <a:pt x="10800" y="12847"/>
                </a:cubicBezTo>
                <a:lnTo>
                  <a:pt x="10800" y="19553"/>
                </a:lnTo>
                <a:cubicBezTo>
                  <a:pt x="10800" y="2057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914400"/>
            <a:ext cx="64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Modalidades de prestação  de serviços públ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534520" cy="54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256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ei 11.107 - Gestão associada – Modelo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contratação individual da CESB ou de autarquia estadual por cada município para os serviços de sane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onvênio de cooper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stado ----------------------------------------------------- Municíp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mpanhia estadual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------------------------------  Contrato de progr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utarquia estad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4353000">
            <a:off x="2369520" y="3164040"/>
            <a:ext cx="485640" cy="958680"/>
          </a:xfrm>
          <a:prstGeom prst="upArrow">
            <a:avLst>
              <a:gd name="adj1" fmla="val 44444"/>
              <a:gd name="adj2" fmla="val 4686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 rot="17247000">
            <a:off x="6363000" y="3240000"/>
            <a:ext cx="486000" cy="958680"/>
          </a:xfrm>
          <a:prstGeom prst="upArrow">
            <a:avLst>
              <a:gd name="adj1" fmla="val 44444"/>
              <a:gd name="adj2" fmla="val 468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990720"/>
            <a:ext cx="8915400" cy="54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ei 11.107 - Gestão associada – Modelo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contratação coletiva da CESB ou de autarquia estadu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r consórcio público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onsórcio Público    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----------- contrato de progr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mpanhia estadual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u Autarquia estad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unicípio 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unicípio B    Município C    Estado -------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1902600">
            <a:off x="2050920" y="4495680"/>
            <a:ext cx="486000" cy="976320"/>
          </a:xfrm>
          <a:prstGeom prst="upArrow">
            <a:avLst>
              <a:gd name="adj1" fmla="val 44444"/>
              <a:gd name="adj2" fmla="val 4769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05320" y="457200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20112000">
            <a:off x="5866920" y="457164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772160" y="464832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01:23:54Z</dcterms:created>
  <dc:creator>none</dc:creator>
  <dc:description/>
  <dc:language>en-US</dc:language>
  <cp:lastModifiedBy>Aureliano</cp:lastModifiedBy>
  <dcterms:modified xsi:type="dcterms:W3CDTF">2007-02-14T11:43:10Z</dcterms:modified>
  <cp:revision>22</cp:revision>
  <dc:subject/>
  <dc:title>   A Gestão Associada nos Serviços  Públicos de Saneamento Básico   Eng. Marcos Helano Fernandes Montenegro   Seminário Regionalização e Gestão Associada de Serviços Públicos de Saneamento Básico Brasília, 07 de novembro de 2006.</dc:title>
</cp:coreProperties>
</file>